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2DA2-A28C-4AAC-8C95-3DC50D1C840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17D-75D3-4259-B056-27B7792D5E6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F3CA-CEB8-4E89-A196-7B9045D1CC5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6420-5658-4175-9507-30B2766D0FC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992-297C-4398-889A-E926A4D7069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FC73-62B7-4754-AF1B-3A429245A79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E27-8AF8-469A-8EA0-674E4E5FC1F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47F-850C-41B4-9CFE-5B240E34F27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36D-64E5-4092-B225-9496FF86F47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9ED-171E-4CCA-A5AE-31D7E2DCBF2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F1C-E337-4341-B6BD-F8DF95D8030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D39-BE60-4F44-8CCC-FD8AE4A5053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4FC-B577-41FB-8647-A8F32EF13BD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7B8-4958-4B59-AF13-3B1F72A93F7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BFB4-746C-48AA-9E88-CC0EFEADAEF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921-E341-41C7-8C28-00F1D1B02E2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D96-F9A1-4431-AFA4-AC0C518239F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6C2-0E62-4175-B80E-A658B60D5D5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3A88-D1A7-44B9-AD28-F2F2953AA89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3A28-4598-4BF9-B1BA-9CAD0DF8CAF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0DF-7930-40CA-94B3-7BA44A7DAF7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4C9-E86D-415E-98A5-4C7310B01C1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EAC-AB18-46A9-B665-BA32EEB6721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482-B374-4407-A500-5DDA82ABF56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950-DA3B-4B77-8B52-8B9316DB5C8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BC4-84E0-4B35-BC68-DA2FD5DF550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491-AF42-4CB1-B0A8-A1E5F2DF948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7AD-424A-4399-9681-466DB32DF59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5D3-6DC0-4380-950E-69F515D45D1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EF9-3F01-4209-B02C-475CBFD9A8A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CAEE-154B-4A44-A6AA-A7CF52B7832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CF9-DB0F-4C71-B522-E5E608027B6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B29C-EE56-4163-8D34-65385BF5DBA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698-6C16-4B35-9B03-59E1668FE20A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418-10F5-42B2-A987-FAEACB3FC726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DD4-83A3-4233-BBFD-B6C9E821303D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0F2-B518-4D98-BDA0-A9F528EB7433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A9DD-B2A8-42BF-8F97-12C03F38F484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3162-6D1A-4487-B67A-4835CA49936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76F-8C7E-4B86-BC00-2FE95BC6551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7EF2-D25A-4AC1-B374-B00AC6198F92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04D9-1860-4D0F-91B2-239E5318089C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3FC4-EF7A-4650-B76E-CCD62B5300A1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EED-1111-4061-84FC-FF013A00D659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BAF8-0EAA-467C-AD34-BBD30DAE8087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9AC2-A756-44A8-9BDC-C6428035AC30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3A88-8B6C-4095-90DA-5416DA5FB5D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7EAB-1DE6-461E-AD2F-D23E76D079C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6E3D-08B5-4477-B2CC-DC9EF120B2F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5DEA-12D6-4EB0-A9E0-75E021BA4B6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F464-0D85-46A7-AD05-D34FE5068FD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E0C-A8AC-4968-B9AB-A7D7A6D1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140-4417-4E13-AB66-CB4EF6E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819-6B81-4416-B648-A0D2A449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F24-A5BB-4F1D-A074-864F9584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886-260C-44EC-BA25-C0FA9823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002E-7C2E-46C8-BC30-33200C8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BC06-3C8E-4C47-B737-E0F91D5B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55BE-3A87-4995-A428-B765F98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0C31-92CC-4B24-A41E-5CDAC399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8FEE-492D-47EF-9418-97EC4AA4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A291-B399-4319-9F56-5BEDC15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EC3-D657-4DDC-B274-DA5ACE15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0EC8-BEAD-4F08-8832-6D636F0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9C65-4316-45B7-9BDC-4DCF2FC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6D5-B0EE-4E78-A93C-55088907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EC7-F455-43F6-8F1B-A810FE6F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FD49-B9F0-424B-B77B-9BD772D8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7C971-FBB3-469B-8327-2A451298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65583-6BDF-4C79-9E40-BB5F8AA2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FC36B-B0E9-490E-A1FF-AB937705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FB0F4-99FE-43B4-8551-44AF13B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E0F62-1AD8-4801-B92B-9F972196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E12-B10F-4A9C-AB2A-99838AD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7C347-3DFC-4882-A3F4-A6578156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D4345-EDDD-4368-BDFC-F79DD03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3843E-096F-4EF9-AFEA-FD42B768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789CB-B54E-4B62-B11F-D0D72BC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7E0F5-498E-4ED7-B38C-2708E57E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AC9D5-FD41-472A-BEA0-7F257175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FAF4C-4C84-40D3-BDD6-3E97FAEE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194A-4E38-498F-ACFC-5210288C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3453-68BB-4000-836B-FF91717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8D2F-22C2-4E96-8B1F-07EB67B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94E-F780-4FA5-94D7-EACDA5B5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E124-F6D7-41F1-8EDC-B4B07FB5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9DB0-4D05-4512-BDE5-02050232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221F-082D-40F2-9065-D7593A9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EC05-1C99-47E2-871D-9F30998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F4E0-A3B0-487C-9AD4-012B906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CE12-2E75-4D4C-9FE0-AE2AC9D5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C473-E7CD-4743-8898-80EFCC6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B391-10C7-4652-88A1-4663F869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C241-CD69-4121-A69B-8402181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96DB7-6450-4432-A897-E0034FC6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6A3-D088-46A0-8A1C-2F16D98E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EFDA9-69E0-4DA0-8FFB-0CD61C08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0800A-5668-4E77-88F2-C09EB1A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7A6AE-A7E3-4C18-BF77-0FE0387B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A6F93-C083-41C4-BDD7-F403DE57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0BE63-D2D4-4686-B901-C16C48C1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34D19-1E9C-4820-A145-2B72721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A3987-13E8-4228-A9CF-3545CFE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E1589-4505-47ED-B921-2F31FE4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54A21-AADD-4CA1-A57C-2CEAC981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2AFBA-9E2C-4533-A25B-7585CAD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851-0963-4138-ACA7-53BE4AE0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62670-B0B4-4568-A34F-5D0AA8AA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A58AF-7D16-4F7A-A563-2F497840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5652E-EF15-47FD-A618-0DEA9ED0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145AF-43FE-41EA-8A05-1B91138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3BFDF-E27C-4061-85C8-83B7D02C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81FFA-B689-4A43-B1AD-6F78C2E7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5F831-A1D7-4213-9828-EF1D051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BC193-3E54-4D84-8AEF-B4D16733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1DDBA-EE07-408A-AB91-BC0AA4CF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DE2C5-F17E-426D-888C-A299514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8CD-8315-44FD-86C9-5219494E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9673D-C431-4166-9203-76DD78E1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B3CD6-77F2-42EE-9695-6C7D3774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65506-02F3-4C12-85D2-DB62F180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1C5BF-2499-44FD-9A13-D6E511B8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3D71E-8B11-46C3-AD38-3EE21D0D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60E71-A919-49B0-A2A5-6DC9827A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A4712-F9EB-4D8D-B4CA-C0695F0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A5B6B-65CC-48C4-86C5-8AF594FA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73120-5FF4-4A5A-A63C-1283ECF8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F41C8-2AFE-4A10-98F5-8254210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4BF-C630-4BD6-89AA-AB3F688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B6416-6C26-4AA6-8148-D4075FB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942F9-D16A-48DD-ADEA-003F5B0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7651A-08FF-4606-9D77-B128EA4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99B4D-CF0E-4CCF-9616-D2466871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90DE4-3F11-4534-94B2-2CCBCC2A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8F1-2826-4666-A092-18E6D45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B82-2FED-4AB5-9215-49FD1C98CF1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3F31-4CE0-4ED1-B2A3-95DD6CD460C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CFA-0375-4C6F-8FC5-B9980A81635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473-82AF-4BD0-B52A-5FC9724911A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0B3-1CDC-4E5D-B0D5-E6FA85FADCA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DE0-DA52-4D11-8ADF-63A811EA8B1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9F5-844B-43D7-9819-51BCF8E75AF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84000" y="1341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f497d"/>
                </a:solidFill>
                <a:latin typeface="Century Schoolbook"/>
              </a:rPr>
              <a:t>HIDRATACIÓN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00360" y="50036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ra. Thelma Suau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pto. Ped y cirugia Infantil S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logo U"/>
          <p:cNvPicPr/>
          <p:nvPr/>
        </p:nvPicPr>
        <p:blipFill>
          <a:blip r:embed="rId1"/>
          <a:stretch/>
        </p:blipFill>
        <p:spPr>
          <a:xfrm>
            <a:off x="5508720" y="3068640"/>
            <a:ext cx="806400" cy="15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ttp://t1.gstatic.com/images?q=tbn:ANd9GcRSk28m57rCwmeP74VLZyQOOyysF7QyUQ6GxcwGln-tt6wn5gHDhg"/>
          <p:cNvPicPr/>
          <p:nvPr/>
        </p:nvPicPr>
        <p:blipFill>
          <a:blip r:embed="rId2"/>
          <a:stretch/>
        </p:blipFill>
        <p:spPr>
          <a:xfrm>
            <a:off x="900000" y="333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a forma de calcular la necesidad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uperficie corpor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PESO X 4)+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PESO + 90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requiere del conocimiento del peso y talla para su cálculo 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utilización de tabla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e utiliza de preferencia en pacientes mayores de 20 Kg. Y se estiman como entre 1.800 a 2000 ml/m² s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entury Schoolbook"/>
              </a:rPr>
              <a:t>APORTE VOLUMEN HOLLIDAY V/S SC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93080" cy="5113440"/>
          </a:xfrm>
          <a:prstGeom prst="rect">
            <a:avLst/>
          </a:prstGeom>
          <a:ln w="0">
            <a:noFill/>
          </a:ln>
        </p:spPr>
      </p:pic>
      <p:sp>
        <p:nvSpPr>
          <p:cNvPr id="385" name="3 Flecha arriba"/>
          <p:cNvSpPr/>
          <p:nvPr/>
        </p:nvSpPr>
        <p:spPr>
          <a:xfrm>
            <a:off x="2587680" y="3860640"/>
            <a:ext cx="243000" cy="97812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CALCULO VELOCIDAD INFUS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2 Marcador de contenido" descr=""/>
          <p:cNvPicPr/>
          <p:nvPr/>
        </p:nvPicPr>
        <p:blipFill>
          <a:blip r:embed="rId1"/>
          <a:stretch/>
        </p:blipFill>
        <p:spPr>
          <a:xfrm>
            <a:off x="365040" y="16034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OLLI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mayor 1 año  6 meses, peso 11,5 K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x 10 =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,5 x 50  =     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 10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5 GOTAS POR MI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125000"/>
            <a:ext cx="3657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PERFICIE CORP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11,5 X 4) +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: 1800- 2000 X 0,5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940 – 104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3 – 14 GOTAS/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entury Schoolbook"/>
              </a:rPr>
              <a:t>REQUERIMIENTOS DE ELECTROLITOS: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Na+ 3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K+ 2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Cl- 5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" descr="C:\Documents and Settings\thelma\Mis documentos\Documentos Thelma\CLASES\libro_transtornos_clinicos_de_agua_electrolitos_grd.jpg"/>
          <p:cNvPicPr/>
          <p:nvPr/>
        </p:nvPicPr>
        <p:blipFill>
          <a:blip r:embed="rId1"/>
          <a:stretch/>
        </p:blipFill>
        <p:spPr>
          <a:xfrm>
            <a:off x="5796000" y="1844640"/>
            <a:ext cx="2395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DEFICIT - DES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844640"/>
          <a:ext cx="7848720" cy="4227480"/>
        </p:xfrm>
        <a:graphic>
          <a:graphicData uri="http://schemas.openxmlformats.org/drawingml/2006/table">
            <a:tbl>
              <a:tblPr/>
              <a:tblGrid>
                <a:gridCol w="2052720"/>
                <a:gridCol w="1541160"/>
                <a:gridCol w="2086200"/>
                <a:gridCol w="2168640"/>
              </a:tblGrid>
              <a:tr h="40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: le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: moder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I: se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gor y elasti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d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y 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r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a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an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ón o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os hun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3251520" y="597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gnos y Síntomas según grado de deshid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DEFICIT SEGÚN PERDIDA DE PE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844640"/>
          <a:ext cx="7529400" cy="3024360"/>
        </p:xfrm>
        <a:graphic>
          <a:graphicData uri="http://schemas.openxmlformats.org/drawingml/2006/table">
            <a:tbl>
              <a:tblPr/>
              <a:tblGrid>
                <a:gridCol w="3456000"/>
                <a:gridCol w="2089080"/>
                <a:gridCol w="1984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HIDRATA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DE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V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2" name="Picture 2" descr="C:\Documents and Settings\thelma\Mis documentos\Documentos Thelma\CLASES\deshidratacion21.jpg"/>
          <p:cNvPicPr/>
          <p:nvPr/>
        </p:nvPicPr>
        <p:blipFill>
          <a:blip r:embed="rId1"/>
          <a:stretch/>
        </p:blipFill>
        <p:spPr>
          <a:xfrm>
            <a:off x="539640" y="836640"/>
            <a:ext cx="3024360" cy="39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thelma\Mis documentos\Documentos Thelma\CLASES\DESHIDRATMOD.jpg"/>
          <p:cNvPicPr/>
          <p:nvPr/>
        </p:nvPicPr>
        <p:blipFill>
          <a:blip r:embed="rId2"/>
          <a:stretch/>
        </p:blipFill>
        <p:spPr>
          <a:xfrm>
            <a:off x="3564000" y="549360"/>
            <a:ext cx="42069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Documents and Settings\thelma\Mis documentos\Documentos Thelma\CLASES\deshid grave.jpg"/>
          <p:cNvPicPr/>
          <p:nvPr/>
        </p:nvPicPr>
        <p:blipFill>
          <a:blip r:embed="rId3"/>
          <a:stretch/>
        </p:blipFill>
        <p:spPr>
          <a:xfrm>
            <a:off x="3635280" y="3357720"/>
            <a:ext cx="4249800" cy="322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entury Schoolbook"/>
              </a:rPr>
              <a:t>EL AGUA ES VIDA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3" name="6 Marcador de contenido" descr="desierto.jpg"/>
          <p:cNvPicPr/>
          <p:nvPr/>
        </p:nvPicPr>
        <p:blipFill>
          <a:blip r:embed="rId1"/>
          <a:stretch/>
        </p:blipFill>
        <p:spPr>
          <a:xfrm>
            <a:off x="468360" y="1628640"/>
            <a:ext cx="3510000" cy="2351160"/>
          </a:xfrm>
          <a:prstGeom prst="rect">
            <a:avLst/>
          </a:prstGeom>
          <a:ln w="0">
            <a:noFill/>
          </a:ln>
        </p:spPr>
      </p:pic>
      <p:pic>
        <p:nvPicPr>
          <p:cNvPr id="364" name="7 Marcador de contenido" descr="desierto florido.jpg"/>
          <p:cNvPicPr/>
          <p:nvPr/>
        </p:nvPicPr>
        <p:blipFill>
          <a:blip r:embed="rId2"/>
          <a:stretch/>
        </p:blipFill>
        <p:spPr>
          <a:xfrm>
            <a:off x="4270320" y="2685960"/>
            <a:ext cx="3657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PERDIDAS PATOLOG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3360"/>
          <a:ext cx="7488360" cy="4863960"/>
        </p:xfrm>
        <a:graphic>
          <a:graphicData uri="http://schemas.openxmlformats.org/drawingml/2006/table">
            <a:tbl>
              <a:tblPr/>
              <a:tblGrid>
                <a:gridCol w="2868840"/>
                <a:gridCol w="2333520"/>
                <a:gridCol w="2286000"/>
              </a:tblGrid>
              <a:tr h="27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na Ra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ubadora (RN 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ad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ilador humid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queost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TO GASTRO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m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ión de 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/An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CELA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enaje quirúr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er espa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DE ADMINISTR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: Reg 0, deshidratación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Grado de deshidrat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Osmola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s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ndemnidad de la función re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s de Gastroenteritis Aguda estudios demuestran que el aporte por vía oral a través de Gastroclisis, sonda nasogástrica son mejor tolerados y pueden reponer el déficit en pocas horas (4 HORAS), lo que evitaría la hospital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n Sales de Rehidratación con Na⁺ 45 – 60 meq/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1f497d"/>
                </a:solidFill>
                <a:latin typeface="Century Schoolbook"/>
              </a:rPr>
              <a:t>HIDRATACION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1855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lucosa 111 mM/L (20 g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odio 90 mEq/L (lactantes sodio 45-60mEq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tasio 2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itrato 3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ruro 8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43000" y="1752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LUCION 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e puede ser calculado en deshidratación leve o moderada de la siguiente form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Hidratación límite o deshidratación lev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-10 ml/k después de cada deposi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5ml  a 10 ml o 1 -2 cucharada cada 5 minutos administrar en 2 a 4 hor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2 ml/K después de cada vómi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leve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50cc/K = 415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5cc (60cc/hr) a 10 cc (120cc/hr) cada 5 minutos por 4 horas =  240cc a 48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 – 15 cc/K (83 - 124 cc) por 4 horas = 330 - 498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eshidratación Moderad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50 – 100 ml/K/hr administrar en 2  a 4 ho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20 ml o 4 cucharada cada 5 minutos (240 cc/h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Si no tolera, administrar bolo Suero Fisiológico 20cc/K y continuar con aporte ví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moderado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100 cc/K = 83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15cc (180cc/hr) a 20 cc (240 cc/hr) cada 5 minutos por 4 horas =  720cc a 96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– 30 cc/K (166 -  249 cc) por 4 horas = 664 - 996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hospitalizados se ha preferido la utilización de la vía parenteral que permite un aporte directo al intravascula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 en el caso de  pacientes, en cond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h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shidratados sever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prometidos de concienc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le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 ayun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AGUA ES EL PRINCIPAL COMPONENTE DEL ORGANISM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395280" y="2278080"/>
          <a:ext cx="8345520" cy="33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8080"/>
                    <a:ext cx="83455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55640" y="1901880"/>
          <a:ext cx="6718320" cy="4041720"/>
        </p:xfrm>
        <a:graphic>
          <a:graphicData uri="http://schemas.openxmlformats.org/drawingml/2006/table">
            <a:tbl>
              <a:tblPr/>
              <a:tblGrid>
                <a:gridCol w="843120"/>
                <a:gridCol w="1365120"/>
                <a:gridCol w="944640"/>
                <a:gridCol w="1363680"/>
                <a:gridCol w="2201760"/>
              </a:tblGrid>
              <a:tr h="102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.  PATOLO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.: Pacte. de 10 K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  L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ó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(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500 + 300 =   18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 Mode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 (10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4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000 + 400 = 2.4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(1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500 + 400 = 2.9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39"/>
          <p:cNvSpPr/>
          <p:nvPr/>
        </p:nvSpPr>
        <p:spPr>
          <a:xfrm>
            <a:off x="755640" y="1281600"/>
            <a:ext cx="60483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culo de aporte de volumen seg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grado de deshidrataci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administra la mitad del volumen en las primeras 8 horas y el resto en las próximas 16 horas. O se calcula en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os en urgencia recuperan déficit en 4 hrs. Y realiment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la rehidratación debe evaluarse clínicamente de manera continua y reevaluar el aporte si es neces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en deshidrataciones hipertónicas la reposición del déficit debe ser más lenta y por tanto se calcula la mitad del déficit para las primeras 24 hora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compromiso hemodinámico o shock se debe administrar bolos de Sol. Fisiológica 20cc/K en 20 minutos, repetir hasta lograr mejoría en estado hemodinám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no recuperar presiones puede administrarse soluciones coloidales y luego instalar CVC para administrar drogas vasoac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TIPO DE FLUIDO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sanos la administración de fluidos endovenosos debería ser dado en solución salina (Suero fisiológico 0,9%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ₒ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reparados con glucosa 5% + electrolitos (Na⁺ 70meq/lt + K⁺ si la función renal está conservada) esto último para asegurar aporte de glucosa a nivel cerebral, disminuir el catabolismo proteico y evitar la cetoacidosi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ar soluciones bajas en electrolitos y mantenidas en el tiempo, contribuye a aumentar el riesgo de hiponatrem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EPARADOS DE NAC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1 g de NaCl aporta 17 mEq de Na y 17 mEq de C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Usamos NaCl 10%, o sea que en l0 cc de NaCl 10% tenemos 1 g de este compuesto, vale decir 17 mEq de Na (1,7 mEq/ml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10 cc de NaCl 10% en 500 cc de solución glucosada 5%, estamos poniendo 17 mEq de sodio en medio litro de solución, o sea, 34 mEq en 1 li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20 cc NaCl 10% en 1000cc de SG 5%, aportaremos 68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SOLUCIONES SEGÚN TIPO OSMO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Tonicidad de la solución según tipo osmol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Desh. hipertónica (natremia &gt;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30 - 4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isotónica (natremia 130 -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50 - 6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(natremia 120 - 13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70 - 8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severa (natremia &lt; 120):Tonic. 80 - 10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IMERA PART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4" name="6 Marcador de posición de imagen" descr="http://2.bp.blogspot.com/-MoWk1mUF5Jk/UZpPQHZneQI/AAAAAAAAA6U/QSsZv0802D8/s1600/breakandcontinue.jpg"/>
          <p:cNvPicPr/>
          <p:nvPr/>
        </p:nvPicPr>
        <p:blipFill>
          <a:blip r:embed="rId1"/>
          <a:stretch/>
        </p:blipFill>
        <p:spPr>
          <a:xfrm>
            <a:off x="1476360" y="1484280"/>
            <a:ext cx="5165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TOMAMOS FELICES!!!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3 Imagen" descr="http://pensamientospositivos9.files.wordpress.com/2011/08/r-positivo-_1.jpeg?w=300&amp;h=200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KALEMIA sobre 5,5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´CAUS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emóli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idosis metaból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uficiencia Renal 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oaldosteronismo (HSRC perdedora de s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ármacos: (-) ECA, AI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Rectángulo"/>
          <p:cNvSpPr/>
          <p:nvPr/>
        </p:nvSpPr>
        <p:spPr>
          <a:xfrm>
            <a:off x="539640" y="90792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la cantidad de un sustrato o nutriente que asegura la integridad y  buen funcionamiento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 BASAL: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el requerimiento de un individuo en condiciones metabólicas ba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COMEND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es una cantidad mayor que el requerimiento y que pretende asegurar un adecuado aporte a los individuos de una población, considerando la variabilidad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TAMIENTO: Monitorización UPC o U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sinas de Intercambio Ionico: Kayexe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gr/K rectal u oral diluido el glu HT (30 o 50%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luconato de Calcio ev lento 1cc/k en 30 minutos, seguido d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&lt;bicarbonato de Na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1 meq/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lucosa + Insul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lt; 135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atrogen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sminución del volumen circulante: pérdidas gastrointestinales (diarrea, vómitos), Dérmicas FQ), Renales (Nefropatía perdedora de sal, diuréticos, hipoaldosteronismo, Estado edematoso (I. Crdíaca, cirrosis, Sd. Nefrót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uréticos tiazíd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. Renal: Ag y C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xceso ADH (Secreción inapropiad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hay compromiso neurológico (cefalea, náuseas, CEG, letargia, convulsion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olución Salina HT 3% (NaCl 10% diluído 1/3 + 2/3 SG 5%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Objetivo llevar Natremia a 125 meq/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éficit= (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eado - Na⁺ actual)x 0,3x pe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BIC     1-2meq/lt/h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dealmente el  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no debe ser mayor a 10-15meq/d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no hay compromiso neurológico no requiere corrección con solución salina 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050920" y="371628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2771640" y="4220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ER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 145-15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de agua lib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ner el 50% del déficit en las primeras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iendo del valor de 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rregir con soluciones 40-30-2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velocidad de corrección no &gt; 1 meq/Hr o 15 meq/24 h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CAPITULEM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8380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CID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stado fisiopatológic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hay más ácido 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enos base de l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LCAL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ay más base o menos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de lo 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Century Schoolbook"/>
              </a:rPr>
              <a:t>ALTERACIONES ÁCIDO - BÁSICAS: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Des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Parcialmente 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27"/>
          <p:cNvSpPr/>
          <p:nvPr/>
        </p:nvSpPr>
        <p:spPr>
          <a:xfrm>
            <a:off x="942480" y="1600200"/>
            <a:ext cx="698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+   H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+ 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516040" y="1981080"/>
            <a:ext cx="1904760" cy="152280"/>
            <a:chOff x="2516040" y="1981080"/>
            <a:chExt cx="1904760" cy="152280"/>
          </a:xfrm>
        </p:grpSpPr>
        <p:sp>
          <p:nvSpPr>
            <p:cNvPr id="468" name="Line 1029"/>
            <p:cNvSpPr/>
            <p:nvPr/>
          </p:nvSpPr>
          <p:spPr>
            <a:xfrm>
              <a:off x="2516040" y="1981080"/>
              <a:ext cx="19047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 flipH="1">
              <a:off x="2591640" y="2133360"/>
              <a:ext cx="175284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Line 1033"/>
          <p:cNvSpPr/>
          <p:nvPr/>
        </p:nvSpPr>
        <p:spPr>
          <a:xfrm flipH="1" flipV="1">
            <a:off x="1448280" y="2502000"/>
            <a:ext cx="2160" cy="11080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34"/>
          <p:cNvSpPr/>
          <p:nvPr/>
        </p:nvSpPr>
        <p:spPr>
          <a:xfrm flipH="1" flipV="1">
            <a:off x="1600560" y="2549520"/>
            <a:ext cx="2160" cy="11080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2"/>
          <p:cNvSpPr txBox="1"/>
          <p:nvPr/>
        </p:nvSpPr>
        <p:spPr>
          <a:xfrm>
            <a:off x="609480" y="2895480"/>
            <a:ext cx="1781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osis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5943600" y="2971800"/>
            <a:ext cx="1876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calosis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3276720" y="12952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abóli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3124080" y="4591080"/>
            <a:ext cx="21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piratoria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AutoShape 6"/>
          <p:cNvSpPr/>
          <p:nvPr/>
        </p:nvSpPr>
        <p:spPr>
          <a:xfrm rot="19884600">
            <a:off x="1905120" y="22856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 rot="2404800">
            <a:off x="1790280" y="39240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rot="8585400">
            <a:off x="5029200" y="41140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 rot="13384200">
            <a:off x="5105520" y="22089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Sin título2"/>
          <p:cNvPicPr/>
          <p:nvPr/>
        </p:nvPicPr>
        <p:blipFill>
          <a:blip r:embed="rId1"/>
          <a:stretch/>
        </p:blipFill>
        <p:spPr>
          <a:xfrm>
            <a:off x="380880" y="700200"/>
            <a:ext cx="85345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CONTROL DE LA OSMOLARIDAD PLASMÁTICA Y DEL VOLUMEN INTRAVASCU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2349000"/>
            <a:ext cx="74674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H:  AUMENTO DE OSMOLARIDAD, EN TUBULO COLECTOR PRODUCE APERTURA CANALES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D: ESTIMULADA POR OSMORECEPT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Y BARORECEP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MBOS MECANISMOS LLEVAN A UN AUMENTO DEL AGUA Y DISMINUCION OSMO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26" descr="Sin título3"/>
          <p:cNvPicPr/>
          <p:nvPr/>
        </p:nvPicPr>
        <p:blipFill>
          <a:blip r:embed="rId1"/>
          <a:stretch/>
        </p:blipFill>
        <p:spPr>
          <a:xfrm>
            <a:off x="304920" y="1028880"/>
            <a:ext cx="8426160" cy="54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in título1"/>
          <p:cNvPicPr/>
          <p:nvPr/>
        </p:nvPicPr>
        <p:blipFill>
          <a:blip r:embed="rId1"/>
          <a:stretch/>
        </p:blipFill>
        <p:spPr>
          <a:xfrm>
            <a:off x="1066680" y="173160"/>
            <a:ext cx="69343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GASES EN SANGR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H: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informa sobre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hidrogeni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CO</a:t>
            </a:r>
            <a:r>
              <a:rPr b="0" lang="es-MX" sz="1400" spc="-1" strike="noStrike">
                <a:solidFill>
                  <a:srgbClr val="ff3300"/>
                </a:solidFill>
                <a:latin typeface="Century Schoolbook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informa sobre el component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respirato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Déficit de base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informa sobre el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omponente metaból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Bicarbonato estándar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es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bicarbonato que existiría con una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PCO2 de 40 mm H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1 gramo de bicarbonato de sodio aporta 11,9 mEq de ion sodio y 11,9 mEq de ion    bicarbo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/6 M: 0,1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2/3 M: 0,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5%: 0,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Bicarbonato 8,4%: 1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0%: 1,2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CÁLCULO DE BICARBONA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.B. X peso del paciente X 0,6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(de esta cantidad se aporta sólo la mitad en las primeras 24 hor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3 a 5 mEq/K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CORRECCIÓN ACIDOSI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H &lt; 7,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icarbonato st &lt; 12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 valores mayores si hay pérdidas aumentadas y manteni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D los valores son: pH &lt;6,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Al corregir acidosis con bicarbonato se modifica concentración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otas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K+ vuelve al compartimiento intracelular. Potasio corregido se obtiene restando 0,6 mEq por cada décima de pH que se corri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Calc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a++ vuelve a hueso. Corrección rápida lleva a riesgo de hipocalcem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195280" y="44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entury Schoolbook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5" name="Picture 1" descr="C:\Documents and Settings\thelma\Mis documentos\Documentos Thelma\CLASES\NIÑOS.jpg"/>
          <p:cNvPicPr/>
          <p:nvPr/>
        </p:nvPicPr>
        <p:blipFill>
          <a:blip r:embed="rId1"/>
          <a:stretch/>
        </p:blipFill>
        <p:spPr>
          <a:xfrm>
            <a:off x="1908000" y="549360"/>
            <a:ext cx="63597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REGULACION DEL VOLUMEN INTRAVASCULAR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alance de Sodio (Na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 consumo y la excreción ocurre a nivel renal, este a su vez depende de la filtración glomerular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úbulo proximal se reabsorbe el 65% del Na⁺ filtrado, el resto se reabsorbe en el asa de Henle y finalmente a nivel del túbulo distal por acción de aldosterona que produce reabsorción de Na⁺ y excreción de Potasio (K⁺)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ualquier cambio en estos factores llevará a un aumento o disminución en la concentración de Na⁺ y/o K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C:\Documents and Settings\thelma\Mis documentos\Documentos Thelma\CLASES\bebes_necesitan_beber_agua.jpg"/>
          <p:cNvPicPr/>
          <p:nvPr/>
        </p:nvPicPr>
        <p:blipFill>
          <a:blip r:embed="rId1"/>
          <a:stretch/>
        </p:blipFill>
        <p:spPr>
          <a:xfrm>
            <a:off x="5867280" y="220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700280"/>
            <a:ext cx="7467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necesidades basales de agua están dadas p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s pérdidas insensibles (piel, pulmones)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érdidas obligadas por orina y deposiciones 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or la actividad dinámica específic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dicionalmente se ha utilizado la fórmula de Holliday que permite el rápido cálculo de volumen  y homologa el gasto calórico a las necesidades de agua y se calcula según lo siguie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ml o kcal/Kg los primero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0 ml o Kcal/Kg los siguientes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ml o kcal/Kg desde los 20 Kg en adel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0:21:01Z</dcterms:created>
  <dc:creator>Valued Packard Bell Customer</dc:creator>
  <dc:description/>
  <dc:language>en-US</dc:language>
  <cp:lastModifiedBy>Usuario</cp:lastModifiedBy>
  <dcterms:modified xsi:type="dcterms:W3CDTF">2015-04-17T02:04:10Z</dcterms:modified>
  <cp:revision>48</cp:revision>
  <dc:subject/>
  <dc:title>Diapositiva 1</dc:title>
</cp:coreProperties>
</file>